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gif" ContentType="image/gi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603-529F-4552-B0B8-D4BA4669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D0C-9644-4750-8C76-73D57FB2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B39-5FE5-4BE2-ACD3-9846C315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9E4-4E96-4A57-B333-CB637893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FB9-7B57-4B2A-AE34-5468A39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193-BC0D-4C97-833A-7DA7DC8F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733-ACC3-47DC-9048-14464236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CF3-3E79-4C6B-8135-8ACDA96F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BBA-0515-493D-9182-B068395A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012-EA41-41F9-980D-85B932A5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B30-0379-4507-92EA-EBDD543D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383-C22A-47AE-9B2D-6F6C2A2F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9A11-40FF-4F96-A768-2F1E0A7B7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HOTOSYNTHESIS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16042 0.30797 C 0.16736 0.29456 0.17448 0.28 0.18142 0.26127 C 0.20035 0.20809 0.20538 0.15606 0.19149 0.14797 C 0.17743 0.13872 0.15035 0.17595 0.13142 0.22936 C 0.12135 0.25734 0.11545 0.28393 0.11337 0.30404 C 0.11042 0.32 0.10938 0.33595 0.10938 0.35468 C 0.10938 0.41456 0.1224 0.46404 0.1375 0.46404 C 0.15243 0.46404 0.16545 0.41456 0.16545 0.35468 C 0.16545 0.3267 0.1625 0.29988 0.15747 0.28138 C 0.15538 0.2652 0.15035 0.24809 0.14444 0.23075 C 0.12448 0.17595 0.0974 0.13872 0.08333 0.14797 C 0.06944 0.15722 0.07448 0.20809 0.09444 0.26265 C 0.10243 0.28809 0.11337 0.30936 0.12448 0.32393 C 0.13247 0.33734 0.14149 0.34936 0.15347 0.36138 C 0.18941 0.4 0.22535 0.41734 0.23542 0.40138 C 0.24444 0.3852 0.22448 0.34127 0.18837 0.30404 C 0.17344 0.28809 0.15747 0.27606 0.14444 0.26797 C 0.13247 0.25988 0.11736 0.25341 0.10139 0.24924 C 0.05747 0.23606 0.01944 0.24 0.01649 0.26127 C 0.0125 0.28138 0.04549 0.30797 0.08941 0.32138 C 0.10938 0.3267 0.12847 0.32924 0.1434 0.32809 C 0.15642 0.32809 0.17049 0.32531 0.18542 0.32138 C 0.22934 0.30797 0.2625 0.28 0.25833 0.25988 C 0.25538 0.24 0.21736 0.23468 0.17344 0.24809 C 0.15243 0.25456 0.13333 0.26404 0.12049 0.27468 C 0.10938 0.28254 0.09844 0.29202 0.08646 0.30404 C 0.05139 0.34265 0.03038 0.3852 0.04045 0.40138 C 0.04948 0.41734 0.08646 0.4 0.12135 0.36254 C 0.13837 0.34404 0.15243 0.32531 0.16042 0.30797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60400" y="59832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" name="Group 26"/>
          <p:cNvGrpSpPr/>
          <p:nvPr/>
        </p:nvGrpSpPr>
        <p:grpSpPr>
          <a:xfrm>
            <a:off x="3449520" y="3203640"/>
            <a:ext cx="3164400" cy="2799360"/>
            <a:chOff x="3449520" y="3203640"/>
            <a:chExt cx="3164400" cy="2799360"/>
          </a:xfrm>
        </p:grpSpPr>
        <p:sp>
          <p:nvSpPr>
            <p:cNvPr id="78" name="Line 4"/>
            <p:cNvSpPr/>
            <p:nvPr/>
          </p:nvSpPr>
          <p:spPr>
            <a:xfrm flipV="1">
              <a:off x="3814200" y="3304440"/>
              <a:ext cx="2777040" cy="2557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 rot="304800">
              <a:off x="4221720" y="3298320"/>
              <a:ext cx="2249280" cy="236340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304800">
              <a:off x="4222800" y="3301920"/>
              <a:ext cx="2287440" cy="243972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Line 7"/>
            <p:cNvSpPr/>
            <p:nvPr/>
          </p:nvSpPr>
          <p:spPr>
            <a:xfrm flipH="1">
              <a:off x="3449520" y="5657040"/>
              <a:ext cx="693720" cy="345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THE AID OF A DIAGRAM BRIEFLY DISCREABE  THE GENERAL PROCESS OF PHOTOSTNTHESI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END OF LESS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PHOTOSYNTHESIS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ocess that plants use to make their own food. Plants leaves cont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lorophyll (</a:t>
            </a: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green col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makes photosynthesis possi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GENERAL PROCESS OF PHOTOSYNTHESIS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Cj02321800000[1]"/>
          <p:cNvPicPr/>
          <p:nvPr/>
        </p:nvPicPr>
        <p:blipFill>
          <a:blip r:embed="rId1"/>
          <a:stretch/>
        </p:blipFill>
        <p:spPr>
          <a:xfrm>
            <a:off x="609480" y="1676520"/>
            <a:ext cx="1874880" cy="178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MPj04027050000[1]"/>
          <p:cNvPicPr/>
          <p:nvPr/>
        </p:nvPicPr>
        <p:blipFill>
          <a:blip r:embed="rId2"/>
          <a:stretch/>
        </p:blipFill>
        <p:spPr>
          <a:xfrm>
            <a:off x="2743200" y="3352680"/>
            <a:ext cx="3902040" cy="26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chlorophyll absorbs the </a:t>
            </a:r>
            <a:r>
              <a:rPr b="1" lang="en-US" sz="3600" spc="-1" strike="noStrike">
                <a:solidFill>
                  <a:srgbClr val="ff9900"/>
                </a:solidFill>
                <a:latin typeface="Verdana"/>
              </a:rPr>
              <a:t>sunlight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133720" y="2895480"/>
            <a:ext cx="1828800" cy="8384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9"/>
          <p:cNvSpPr/>
          <p:nvPr/>
        </p:nvSpPr>
        <p:spPr>
          <a:xfrm>
            <a:off x="2133720" y="2590920"/>
            <a:ext cx="5715000" cy="2209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sunlight is combined with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ter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Carbon Dioxi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Verdana"/>
              </a:rPr>
              <a:t>nutrient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from the </a:t>
            </a:r>
            <a:r>
              <a:rPr b="1" lang="en-US" sz="2800" spc="-1" strike="noStrike">
                <a:solidFill>
                  <a:srgbClr val="996633"/>
                </a:solidFill>
                <a:latin typeface="Verdana"/>
              </a:rPr>
              <a:t>soil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6" descr="MMj01725390000[1]"/>
          <p:cNvPicPr/>
          <p:nvPr/>
        </p:nvPicPr>
        <p:blipFill>
          <a:blip r:embed="rId1"/>
          <a:stretch/>
        </p:blipFill>
        <p:spPr>
          <a:xfrm>
            <a:off x="1066680" y="2438280"/>
            <a:ext cx="1828800" cy="1451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4876920" y="2895480"/>
            <a:ext cx="1752480" cy="838440"/>
          </a:xfrm>
          <a:prstGeom prst="cloudCallout">
            <a:avLst>
              <a:gd name="adj1" fmla="val -49726"/>
              <a:gd name="adj2" fmla="val 88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191120" y="48769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14" descr="MCHH02192_0000[1]"/>
          <p:cNvPicPr/>
          <p:nvPr/>
        </p:nvPicPr>
        <p:blipFill>
          <a:blip r:embed="rId2"/>
          <a:stretch/>
        </p:blipFill>
        <p:spPr>
          <a:xfrm>
            <a:off x="6400800" y="2209680"/>
            <a:ext cx="1353960" cy="179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MCPE07013_0000[1]"/>
          <p:cNvPicPr/>
          <p:nvPr/>
        </p:nvPicPr>
        <p:blipFill>
          <a:blip r:embed="rId3"/>
          <a:stretch/>
        </p:blipFill>
        <p:spPr>
          <a:xfrm>
            <a:off x="3124080" y="2819520"/>
            <a:ext cx="1859040" cy="1935000"/>
          </a:xfrm>
          <a:prstGeom prst="rect">
            <a:avLst/>
          </a:prstGeom>
          <a:ln w="0">
            <a:noFill/>
          </a:ln>
        </p:spPr>
      </p:pic>
      <p:sp>
        <p:nvSpPr>
          <p:cNvPr id="56" name="Line 17"/>
          <p:cNvSpPr/>
          <p:nvPr/>
        </p:nvSpPr>
        <p:spPr>
          <a:xfrm>
            <a:off x="5715000" y="3429000"/>
            <a:ext cx="182880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chlorophyll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rocesses the ingredients and make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gar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plant food) and oxygen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5" descr="MPj02896290000[1]"/>
          <p:cNvPicPr/>
          <p:nvPr/>
        </p:nvPicPr>
        <p:blipFill>
          <a:blip r:embed="rId1"/>
          <a:stretch/>
        </p:blipFill>
        <p:spPr>
          <a:xfrm>
            <a:off x="990720" y="3276720"/>
            <a:ext cx="1681200" cy="251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1676520" y="23623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gar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+ 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13" descr="MCPE06924_0000[1]"/>
          <p:cNvPicPr/>
          <p:nvPr/>
        </p:nvPicPr>
        <p:blipFill>
          <a:blip r:embed="rId2"/>
          <a:stretch/>
        </p:blipFill>
        <p:spPr>
          <a:xfrm>
            <a:off x="3809880" y="3352680"/>
            <a:ext cx="1598760" cy="1825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4"/>
          <p:cNvSpPr/>
          <p:nvPr/>
        </p:nvSpPr>
        <p:spPr>
          <a:xfrm>
            <a:off x="5791320" y="3352680"/>
            <a:ext cx="1752480" cy="1371600"/>
          </a:xfrm>
          <a:prstGeom prst="cloudCallout">
            <a:avLst>
              <a:gd name="adj1" fmla="val -114675"/>
              <a:gd name="adj2" fmla="val 62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4800600" y="3886200"/>
            <a:ext cx="19051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6629400" y="350532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Line 17"/>
          <p:cNvSpPr/>
          <p:nvPr/>
        </p:nvSpPr>
        <p:spPr>
          <a:xfrm flipH="1" flipV="1">
            <a:off x="7086240" y="4114440"/>
            <a:ext cx="6858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FORMULA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+ 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+  6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Oval 4"/>
          <p:cNvSpPr/>
          <p:nvPr/>
        </p:nvSpPr>
        <p:spPr>
          <a:xfrm>
            <a:off x="4559400" y="1981080"/>
            <a:ext cx="1011240" cy="949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383000" y="3530520"/>
            <a:ext cx="133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762080" y="2320920"/>
            <a:ext cx="82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8"/>
          <p:cNvSpPr/>
          <p:nvPr/>
        </p:nvSpPr>
        <p:spPr>
          <a:xfrm flipH="1">
            <a:off x="4108320" y="2700360"/>
            <a:ext cx="411120" cy="419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00"/>
                </a:solidFill>
                <a:uFillTx/>
                <a:latin typeface="Comic Sans MS"/>
              </a:rPr>
              <a:t>Two Parts of Photosynthesis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two reactions that make up photosynthesis ar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6394-3508-4795-A213-A30A912113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4560" y="2133360"/>
            <a:ext cx="6424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23:26:27Z</dcterms:created>
  <dc:creator>Brenna Takata</dc:creator>
  <dc:description/>
  <dc:language>en-US</dc:language>
  <cp:lastModifiedBy>Dell</cp:lastModifiedBy>
  <dcterms:modified xsi:type="dcterms:W3CDTF">2013-11-01T15:23:57Z</dcterms:modified>
  <cp:revision>24</cp:revision>
  <dc:subject/>
  <dc:title>Photosynthe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