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F7F-71A8-4DB0-A785-92718438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DF0-C1B1-4DD8-BCDE-79126E73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B17-398A-414F-A394-65F891B1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2AD-7474-4708-AFE9-89131EC9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FC9C-7210-440A-8ACF-B4720399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14F5-2124-4503-989C-4362162F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3096-6685-45E4-BFA4-D9AADA19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5B79-F369-4319-B6A3-C1FCC2E8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44A9-55FB-46BD-94C4-36B641B8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9184-9644-4F25-B4EC-DC2C87D1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6036-7816-4653-AF3E-BECC8AE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D2D-A4FB-490D-8BE7-C9B9472E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B807-12EF-40BD-ACFA-99F37A7C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74C3-4522-4CEF-9A07-2F5DF13B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E7D2-1787-49C8-A321-C8DF8559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8A76-2490-4E4F-AFB2-BF7033C8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C084-DFDF-4AB7-BF0C-94C5D516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D40-8A47-4570-A355-E553AC53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ECD-826D-419A-94F7-D9C6E700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D0A-ACE4-4910-B177-A99A2C44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A9A-EFA3-4BA6-B274-EB7579C2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3BF-24C8-4738-BB2B-A7E6DF5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933-ADC7-4728-A633-EFCC63D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1F2-6EE6-4959-B198-E339A676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AC7F-4C2A-432A-A945-4BC397217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6DF1-5EFA-4D64-A5B2-74BEFF69BFFE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04920" y="2437920"/>
            <a:ext cx="96012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Book Antiqua"/>
              </a:rPr>
              <a:t>POPULATION MIGR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f151a"/>
                </a:solidFill>
                <a:uFillTx/>
                <a:latin typeface="Times New Roman"/>
              </a:rPr>
              <a:t>What is Migration?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2280" y="18288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igration is the movement of people from one place to the other.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lso Migration can be defined as the permanent relocation across significant distance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f151a"/>
                </a:solidFill>
                <a:uFillTx/>
                <a:latin typeface="Times New Roman"/>
              </a:rPr>
              <a:t>TYPES OF POPULATION MIGR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Rounded MT Bold"/>
              </a:rPr>
              <a:t>There are two(2) types of migra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Rounded MT Bold"/>
              </a:rPr>
              <a:t>International migration- movement to other countries 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Rounded MT Bold"/>
              </a:rPr>
              <a:t>Internal migration- migration that occurs inside a countr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Rounded MT Bold"/>
              </a:rPr>
              <a:t>The population of a country is influenced by migration. Emigration (migrating out) and Immigration (migrating in) also contribute to the population of a countr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0840" y="2819520"/>
            <a:ext cx="79246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eople migrate because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igration can be as a result of  voluntary action, conscious decision to move from one place to the next pla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151a"/>
                </a:solidFill>
                <a:latin typeface="Times New Roman"/>
              </a:rPr>
              <a:t>WHY DO PEOPLE MIGRATE?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f151a"/>
                </a:solidFill>
                <a:uFillTx/>
                <a:latin typeface="Times New Roman"/>
              </a:rPr>
              <a:t>Forced Migr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Forced Migration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 imposition of authority and power, producing involuntary migration movement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biggest example of forced migration is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The Atlantic Slave Trad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5" descr="... causing mass migration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f151a"/>
                </a:solidFill>
                <a:uFillTx/>
                <a:latin typeface="Times New Roman"/>
              </a:rPr>
              <a:t>LAWS OF MIGR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very migration flow generates a retur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jority of migrants move short distanc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igrants who move longer distances tend to choose big-citi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rban residents are less migratory than people of rural are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amilies are less likely to make international moves than young adul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5" descr="MCj04413940000[1]"/>
          <p:cNvPicPr/>
          <p:nvPr/>
        </p:nvPicPr>
        <p:blipFill>
          <a:blip r:embed="rId1"/>
          <a:stretch/>
        </p:blipFill>
        <p:spPr>
          <a:xfrm>
            <a:off x="4648320" y="4780080"/>
            <a:ext cx="3886200" cy="207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MCj03188800000[1]"/>
          <p:cNvPicPr/>
          <p:nvPr/>
        </p:nvPicPr>
        <p:blipFill>
          <a:blip r:embed="rId2"/>
          <a:stretch/>
        </p:blipFill>
        <p:spPr>
          <a:xfrm>
            <a:off x="380880" y="4800600"/>
            <a:ext cx="4033800" cy="159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ASSIGNMENT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9220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151a"/>
                </a:solidFill>
                <a:latin typeface="Times New Roman"/>
              </a:rPr>
              <a:t>What is Migration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43040" indent="-743040">
              <a:spcBef>
                <a:spcPts val="9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151a"/>
                </a:solidFill>
                <a:latin typeface="Times New Roman"/>
              </a:rPr>
              <a:t>State the types of Population Migr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END OF LESS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20:13:12Z</dcterms:created>
  <dc:creator>powere</dc:creator>
  <dc:description/>
  <dc:language>en-US</dc:language>
  <cp:lastModifiedBy>Dell</cp:lastModifiedBy>
  <dcterms:modified xsi:type="dcterms:W3CDTF">2013-11-01T16:22:25Z</dcterms:modified>
  <cp:revision>11</cp:revision>
  <dc:subject/>
  <dc:title>Slide 1</dc:title>
</cp:coreProperties>
</file>