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471-5AD4-415F-984E-81A3BE9C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437-7683-4407-8E07-94733F8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770-0F82-47C8-B550-0B62176A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E28-482C-4A44-8136-F5172C33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2814-798A-4C8E-8F02-33CB0A18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D18-5EEA-4EF6-9C81-97C99990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157E-644D-43E1-9D0D-9FA9A0F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767F-D5C7-415A-BFF8-3F54DCF3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986-D830-464D-8532-97984996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C383-30A0-4C94-91D1-4722AF1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4A8-5653-47A6-B0F7-E39B9BE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EDB-AAF2-46F6-B6E4-39B12904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0E11-BBC3-4A6B-BED8-7304F71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52B-475F-43E8-9B54-9CE44F8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F59-351F-4FD9-937E-DEB93AF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C92-984F-480D-A5BD-DC942573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F3E4-CD1C-4AD0-BFD1-31431FAD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DF6-AE02-48EF-8C69-8C05D5A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F0D-86D8-495B-B4A8-355DDEF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E79-6DEC-43CF-B1E6-5F8F46D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476-D445-45A4-B220-7CB49424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1FA-BC71-419D-81EB-2ECD578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03C-E194-448C-B364-AC7E713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A6C-DCC0-40EB-9DC5-C09DD40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DCD0-42F9-4C3C-96FE-73E8A850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E3F-C768-469A-83B7-19B2AA6B7EC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04920" y="2437920"/>
            <a:ext cx="96012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Book Antiqua"/>
              </a:rPr>
              <a:t>POPULATION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f151a"/>
                </a:solidFill>
                <a:uFillTx/>
                <a:latin typeface="Times New Roman"/>
              </a:rPr>
              <a:t>What is Migration?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igration is the movement of people from one place to the other.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lso Migration can be defined as the permanent relocation across significant distance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TYPES OF POPULATION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There are two(2) types of migr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International migration- movement to other countries 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Internal migration- migration that occurs inside a count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Rounded MT Bold"/>
              </a:rPr>
              <a:t>The population of a country is influenced by migration. Emigration (migrating out) and Immigration (migrating in) also contribute to the population of a count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0840" y="2819520"/>
            <a:ext cx="7924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eople migrate because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gration can be as a result of  voluntary action, conscious decision to move from one place to the next pl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151a"/>
                </a:solidFill>
                <a:latin typeface="Times New Roman"/>
              </a:rPr>
              <a:t>WHY DO PEOPLE MIGRATE?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Forced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Forced Migration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he imposition of authority and power, producing involuntary migration movement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biggest example of forced migration is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The Atlantic Slave Trad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5" descr="... causing mass migration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f151a"/>
                </a:solidFill>
                <a:uFillTx/>
                <a:latin typeface="Times New Roman"/>
              </a:rPr>
              <a:t>LAWS OF MIGR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migration flow generates a retur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jority of migrants move short distanc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grants who move longer distances tend to choose big-citie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Urban residents are less migratory than people of rural are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amilies are less likely to make international moves than young adul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Picture 5" descr="MCj04413940000[1]"/>
          <p:cNvPicPr/>
          <p:nvPr/>
        </p:nvPicPr>
        <p:blipFill>
          <a:blip r:embed="rId1"/>
          <a:stretch/>
        </p:blipFill>
        <p:spPr>
          <a:xfrm>
            <a:off x="4648320" y="4780080"/>
            <a:ext cx="3886200" cy="207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3188800000[1]"/>
          <p:cNvPicPr/>
          <p:nvPr/>
        </p:nvPicPr>
        <p:blipFill>
          <a:blip r:embed="rId2"/>
          <a:stretch/>
        </p:blipFill>
        <p:spPr>
          <a:xfrm>
            <a:off x="380880" y="4800600"/>
            <a:ext cx="403380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ASSIGNMENT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9220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51a"/>
                </a:solidFill>
                <a:latin typeface="Times New Roman"/>
              </a:rPr>
              <a:t>What is Migration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51a"/>
                </a:solidFill>
                <a:latin typeface="Times New Roman"/>
              </a:rPr>
              <a:t>State the types of Population Migr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END OF LESS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0:13:12Z</dcterms:created>
  <dc:creator>powere</dc:creator>
  <dc:description/>
  <dc:language>en-US</dc:language>
  <cp:lastModifiedBy>Dell</cp:lastModifiedBy>
  <dcterms:modified xsi:type="dcterms:W3CDTF">2013-11-01T16:22:25Z</dcterms:modified>
  <cp:revision>11</cp:revision>
  <dc:subject/>
  <dc:title>Slide 1</dc:title>
</cp:coreProperties>
</file>